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B37-EBFC-46CB-96E2-925A0FA9A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FBB5-6413-4ABC-ABD1-B2A41911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E5E6-BE08-4375-A031-89CBA1D55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8517-6FCB-42A5-9AE3-C02436C64E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93DBF-026D-4DBB-9488-CBEC5BF6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30286-608B-4F7C-9BB2-3339308F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208A-FCE2-4B48-8A8C-6789D09C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08165-14B0-46A3-86FC-0AF2F609B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014F-7510-4205-9B83-205749449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B94D7-AFB1-4423-A97B-69A4F8977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6F7D-A606-414C-8965-D41F8E08C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3717-EAD6-4FC6-88C8-DA1B903E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46E91-5574-41E3-9B04-5E862D09B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1120-5961-4E9F-84F9-ED4B36B4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1FB93-5458-4A20-A581-7B0691A0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6102-B070-4817-99BF-F3913F622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9CF6-34DD-43CC-BA23-F4D2E4E52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5C0E-A288-45A3-A373-7322066E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92C8-A8D7-41C2-933F-78AD573E7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8F27-0BFD-4D9E-8E49-3C9BAFCA8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EF91-4BFE-48C0-BCBC-8C58FEF95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7B4E-216C-42C8-A7EC-E08A8473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1D1A-E191-4655-8F37-BC295FE2F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4CB9-F2CB-4BCA-93B2-EA5EAEC00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0440" indent="-46044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55440" indent="-38160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469160" indent="-32832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929600" indent="-29340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19480" indent="-276480">
              <a:spcBef>
                <a:spcPts val="7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19480" indent="-2764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19480" indent="-276480">
              <a:spcBef>
                <a:spcPts val="7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C1F5-B951-492B-B88F-30C856295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Click to edit the title text format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5EBEB-0E7F-497E-A1D1-6FB79F8B9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237960" algn="ctr">
              <a:spcBef>
                <a:spcPts val="601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28116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235080" algn="ctr"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23508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235080">
              <a:spcBef>
                <a:spcPts val="499"/>
              </a:spcBef>
              <a:buClr>
                <a:srgbClr val="000000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questioning.org/module3/slamdunk6.ppt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2a5401"/>
                </a:solidFill>
                <a:latin typeface="Futura"/>
              </a:rPr>
              <a:t>Slam Dunk</a:t>
            </a:r>
            <a:endParaRPr b="0" lang="en-US" sz="88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ow to create a less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The 6 Step SDL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100000"/>
              </a:lnSpc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wnload a PowerPoint template from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Verdana"/>
                <a:hlinkClick r:id="rId1"/>
              </a:rPr>
              <a:t>http://questioning.org/module3/slamdunk6.p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rt by filling ou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ge S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a great Web site that has rich information resources to match your lesson and describe o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ge Tw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an essential question that could be explored using the site you listed on Page Two and place it o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ge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line the learning steps you want the students to follow o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ge Th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ulate an assessment activity and place it o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ge</a:t>
            </a: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Fou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3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vide enrichment activities o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ge Fiv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8c56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5401"/>
                </a:solidFill>
                <a:latin typeface="Futura"/>
              </a:rPr>
              <a:t>No Time SDL</a:t>
            </a:r>
            <a:endParaRPr b="0" lang="en-US" sz="4400" spc="-1" strike="noStrike">
              <a:solidFill>
                <a:srgbClr val="2a5401"/>
              </a:solidFill>
              <a:latin typeface="Futu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5120" indent="-465120">
              <a:lnSpc>
                <a:spcPct val="100000"/>
              </a:lnSpc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the curriculum content and State Curriculum goals worthy of at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300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nd high quality digital content (Image, Numerical Data or Tex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512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65120" indent="-465120">
              <a:lnSpc>
                <a:spcPct val="100000"/>
              </a:lnSpc>
              <a:spcBef>
                <a:spcPts val="499"/>
              </a:spcBef>
              <a:buClr>
                <a:srgbClr val="2d5902"/>
              </a:buClr>
              <a:buFont typeface="Wingdings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rite a one page lesson directing students to source and outlining expectations for a challenging thinking task using NAEP items as a guide from The NAEP Questions Tool at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Verdana"/>
              </a:rPr>
              <a:t>http://nces.ed.gov/nationsreportcard/itmrl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9T01:48:04Z</dcterms:created>
  <dc:creator>CMCSS</dc:creator>
  <dc:description/>
  <dc:language>en-US</dc:language>
  <cp:lastModifiedBy>CMCSS</cp:lastModifiedBy>
  <dcterms:modified xsi:type="dcterms:W3CDTF">2008-06-19T02:48:37Z</dcterms:modified>
  <cp:revision>6</cp:revision>
  <dc:subject/>
  <dc:title>Slam Dunk</dc:title>
</cp:coreProperties>
</file>